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76F-39B4-475F-86D0-067771A9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609-9BDA-4722-A81E-8C80242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AEA-8AAB-4A34-A75A-8972F4A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127-0420-413E-A3ED-910C0A27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D10-E2DD-4D40-9B3F-CC8519E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295-92F0-4A1C-89F2-601575D1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4D3-F6F6-46BF-BF80-9CE7F036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B9F-E821-4CA1-93AA-5CE191AE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95B-B901-4BFD-84D5-EA9274B4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5D3-6079-4CCE-A96D-F0BEA38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A1C-2F8A-4431-8037-9C9DC019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D2C-9155-41ED-AD5B-AA47D47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4D95-4104-4D36-9B6A-D5FC53CD7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ature of Liqu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y: George X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Jenny M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lan J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sia Fran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quid and K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T: Kinetic Molecular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the KMT, Liquids particles are attracted to each other, creating a denser sol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 is the force exerted by a gas above a liqu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T affects Vapor Pressure since the molecular kinetic energy is greater at higher temperature, more molecules can escape the surface and the saturated vapor pressure is correspondingly hig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vs. 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s the force exerted by a gas above the surface area of a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 is the force exerted by a gas above a liqu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: A conversion of a liquid to gas when it is not bo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ization: Conversion of a liquid to gas or va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: When a liquid is heated to a temperature at which particles throughout te liquid have enough knetic energy to vapo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2:49:11Z</dcterms:created>
  <dc:creator>14ajia</dc:creator>
  <dc:description/>
  <dc:language>en-US</dc:language>
  <cp:lastModifiedBy>\</cp:lastModifiedBy>
  <dcterms:modified xsi:type="dcterms:W3CDTF">2012-04-26T13:17:48Z</dcterms:modified>
  <cp:revision>6</cp:revision>
  <dc:subject/>
  <dc:title>The Nature of Liquids</dc:title>
</cp:coreProperties>
</file>